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301F-BD5E-4C5A-88D7-B77203AB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9EC-EE4B-4F6B-907B-4A6374A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1598-4B21-426A-90F7-F25AE67D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EFD6-7A51-4E90-AAAF-29135879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F2A8-61A9-4620-B172-B3223DFB9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D30-AB6A-4071-861D-4D29E50F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673-36AA-4E7A-96BD-B2EE2F6E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B9370-503B-490E-BE72-8943525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0FA4-80E6-47CE-95AA-5588541B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630C8-8FB8-4B4F-82E0-468E19EC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1AB6-CC8E-4D92-BBDE-72ED0752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CF4-6857-4795-A1AF-E89BE1D26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CA18-9017-483E-86FD-585A1A1E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878C-3198-427D-BC37-B7E14F82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DA15-C722-42DB-B026-CC29E5C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4255-5EA9-4EA2-8F8D-E6A41FA8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B06C0-A263-43C4-B683-AE634D9E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EDEA-4FB5-4DE9-A90A-D5C82625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757-0ADA-4E26-902E-A9A255DB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EAF9-622D-4290-9117-759C263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E03E-18E5-401B-84A1-F4E0CA16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E87C-AEBE-41D6-90F9-BEC441B4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C23F-2EBA-4644-9126-072AB798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8D74-C435-4056-9DD3-E189E021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33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leasant Grove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pr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CFB9E-30FE-4474-86D1-7DED96BD61C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Pleasant Grove High Scho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Spring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BD57-FB82-42B0-AEEE-92D4C7DBC1E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IRUSE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y 21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84984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ojan Ho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puter program that seems to perform one function while actually doing something el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fferent from a virus because it does not make copies of itsel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fferent tasks that can be affec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ealing passwo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leting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162920" cy="3900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ojan Horse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program designed to enter a computer system usually through a network, through security holes and then replicate itsel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preads from computer to comput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orm Examp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62480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tecting yourself from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ntivirus softwar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of utility programs that looks for and eradicates a wide spectrum of problems, including viruses, Trojan horses, and wor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cAfee Virus Sca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on’t open e-mails attachments that have strange names or are from people you don’t recogniz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our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sons, June Jamrich, and Dan Oja.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omputer Concep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Boston: Course Technology - Thompson Learning, 2002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puter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4038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 of program instructions that attaches itself to a file, reproduces itself, and/or spreads to other fi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t c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rrupt fi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estroy da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play irritating messag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rrupt computer system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33433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reading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es spread because people distribute infected files by exchanging disks and CDs, sending e-mail attachments, and downloading documents from the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es attach themselves to files with .exe, .com, or .vbs filename exten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en you open the infected file, the virus opens and waits to infect the next program you run or disk you u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reading Viruses (continued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es have the ability to lurk in a computer for days or months, quietly replicating themselv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may not even know your computer has a virus, thus making it easier to spread the vir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gger Even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 event that activates a task often associated with a computer vir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Bom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tches for the PC clock to reach a certain date to activate the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ichelangelo viru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Damages files on March 6 the artist’s birthda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gic Bom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tches for a specific set of input to activate the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assification of Virus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51240" y="2362320"/>
            <a:ext cx="44672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le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irus that attaches to an application progra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hernoby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otorious for overwriting a section of the hard disk, making it impossible to access d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oot Sector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fects the system files that your computer uses every time it is turned 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use widespread damage and recurring probl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toned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very time you turn on your computer the virus is activated and infects any non-write-protected files including your hard dis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 Vir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 miniature program that usually contains legitimate instructions to automate a document or tas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s virus infects a mac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elissa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taches itself to Microsoft Word documen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demas Vir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taches itself to Microsoft Excel spreadsheet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4:19:05Z</dcterms:created>
  <dc:creator>Michelle Guymon</dc:creator>
  <dc:description/>
  <dc:language>en-US</dc:language>
  <cp:lastModifiedBy>Larry Phelps</cp:lastModifiedBy>
  <dcterms:modified xsi:type="dcterms:W3CDTF">2004-09-07T16:56:07Z</dcterms:modified>
  <cp:revision>25</cp:revision>
  <dc:subject/>
  <dc:title>Viruses</dc:title>
</cp:coreProperties>
</file>